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348-CB0F-4A02-98C7-3AC3EEA1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E05-1ED7-4E91-B8BA-EE65B6D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8BF-079A-44A7-B8CA-60420FD8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73E-A76C-44DB-A513-90C8594C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7B9-F36D-48F6-8D62-D6B70FC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67D-8493-4C4A-BCD6-B0755D62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E46-079E-40D4-963A-C221E50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18E-00B6-44BA-BE13-F5691200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454-5D5A-4A2A-ACA4-19B5014D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26A-9204-412B-A4F4-10308A4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7AF-AED7-4FFB-83C4-37F21AE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7F4-0516-47E7-B058-F280A2F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B12D-A38A-4CF1-A1BD-C58F1D1A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189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26828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12682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421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2421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3645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3645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486900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7640" y="486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6004080"/>
            <a:ext cx="125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600408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-1405080" y="1916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20000" y="-139536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2124000" y="652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54072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35280" y="73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1332000" y="-1324080"/>
            <a:ext cx="13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6 0.03585 C 0.31771 -0.08881 0.53107 -0.21346 0.67222 -0.15911 C 0.81354 -0.10476 1.06719 0.25301 0.9526 0.3624 C 0.83819 0.47179 0.15104 0.47364 -0.01493 0.49746 C -0.18108 0.52128 -0.11285 0.51295 -0.04445 0.50486 E">
                                      <p:cBhvr>
                                        <p:cTn id="6" dur="2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8264 C 0.0724 0.26227 0.13976 0.4419 0.06129 0.55764 C -0.01719 0.67338 -0.33941 0.88356 -0.4658 0.77685 C -0.59219 0.6706 -0.64462 0.29467 -0.69705 -0.08125 E">
                                      <p:cBhvr>
                                        <p:cTn id="10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2477 C 0.40017 -0.03935 0.72673 -0.05417 0.80277 -0.14699 C 0.87882 -0.24005 0.44722 -0.39514 0.52986 -0.5831 C 0.6125 -0.77107 0.95555 -1.02292 1.29861 -1.27477 E">
                                      <p:cBhvr>
                                        <p:cTn id="14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8657 C -0.32291 -0.22801 -0.60538 -0.36967 -0.70711 -0.36435 C -0.80885 -0.35926 -0.66892 0.00371 -0.65086 -0.05602 C -0.63281 -0.11574 -0.61579 -0.41921 -0.59878 -0.72268 E">
                                      <p:cBhvr>
                                        <p:cTn id="1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8195 C -0.20017 -0.27222 -0.37135 -0.4625 -0.31441 -0.49584 C -0.25746 -0.52917 0.38212 -0.25463 0.31268 -0.28195 C 0.24323 -0.30926 -0.55694 -0.5963 -0.73107 -0.65972 E">
                                      <p:cBhvr>
                                        <p:cTn id="22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3888 C 0.33368 0.07592 0.56996 0.11296 0.67031 0.21666 C 0.77066 0.32037 0.5908 0.50231 0.69948 0.66111 C 0.80816 0.8199 1.06528 0.99467 1.32239 1.16944 E">
                                      <p:cBhvr>
                                        <p:cTn id="26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3200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2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89000"/>
            <a:ext cx="12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189000"/>
            <a:ext cx="1258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43280" y="18900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189000"/>
            <a:ext cx="14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84720" y="189000"/>
            <a:ext cx="1258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67640" y="18900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1268280"/>
            <a:ext cx="125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00360" y="1268280"/>
            <a:ext cx="144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00720" y="1268280"/>
            <a:ext cx="12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126828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67640" y="1268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-181080" y="249228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re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00360" y="2565360"/>
            <a:ext cx="1511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00720" y="2421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2421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si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67640" y="242100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ci-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645000"/>
            <a:ext cx="125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eci-nu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43280" y="3645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3645000"/>
            <a:ext cx="125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84720" y="3645000"/>
            <a:ext cx="12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einti-t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67640" y="3645000"/>
            <a:ext cx="147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ua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ci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200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00720" y="4869000"/>
            <a:ext cx="12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84720" y="486900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inti-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67640" y="5013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080" y="597204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inta  y u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60040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einta 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6004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t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84720" y="60040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uat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6004080"/>
            <a:ext cx="13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cin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67640" y="594360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treinta y se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2565360"/>
            <a:ext cx="143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tor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7:24:52Z</dcterms:created>
  <dc:creator>Owner1</dc:creator>
  <dc:description/>
  <dc:language>en-US</dc:language>
  <cp:lastModifiedBy>Owner1</cp:lastModifiedBy>
  <dcterms:modified xsi:type="dcterms:W3CDTF">2008-07-21T07:51:16Z</dcterms:modified>
  <cp:revision>3</cp:revision>
  <dc:subject/>
  <dc:title>Slide 1</dc:title>
</cp:coreProperties>
</file>